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gif" ContentType="image/gif"/>
  <Override PartName="/ppt/media/image66.jpeg" ContentType="image/jpeg"/>
  <Override PartName="/ppt/media/image53.png" ContentType="image/png"/>
  <Override PartName="/ppt/media/image50.gif" ContentType="image/gif"/>
  <Override PartName="/ppt/media/image52.gif" ContentType="image/gif"/>
  <Override PartName="/ppt/media/image20.jpeg" ContentType="image/jpeg"/>
  <Override PartName="/ppt/media/image49.gif" ContentType="image/gif"/>
  <Override PartName="/ppt/media/image48.gif" ContentType="image/gif"/>
  <Override PartName="/ppt/media/image47.gif" ContentType="image/gif"/>
  <Override PartName="/ppt/media/image40.jpeg" ContentType="image/jpeg"/>
  <Override PartName="/ppt/media/image1.wmf" ContentType="image/x-wmf"/>
  <Override PartName="/ppt/media/image37.jpeg" ContentType="image/jpeg"/>
  <Override PartName="/ppt/media/image43.gif" ContentType="image/gif"/>
  <Override PartName="/ppt/media/image36.png" ContentType="image/png"/>
  <Override PartName="/ppt/media/image9.jpeg" ContentType="image/jpeg"/>
  <Override PartName="/ppt/media/image54.gif" ContentType="image/gif"/>
  <Override PartName="/ppt/media/image55.gif" ContentType="image/gif"/>
  <Override PartName="/ppt/media/image11.png" ContentType="image/png"/>
  <Override PartName="/ppt/media/image2.png" ContentType="image/png"/>
  <Override PartName="/ppt/media/image16.jpeg" ContentType="image/jpeg"/>
  <Override PartName="/ppt/media/image21.jpeg" ContentType="image/jpeg"/>
  <Override PartName="/ppt/media/image62.gif" ContentType="image/gif"/>
  <Override PartName="/ppt/media/image12.jpeg" ContentType="image/jpeg"/>
  <Override PartName="/ppt/media/image4.png" ContentType="image/png"/>
  <Override PartName="/ppt/media/image75.jpeg" ContentType="image/jpeg"/>
  <Override PartName="/ppt/media/image74.jpeg" ContentType="image/jpeg"/>
  <Override PartName="/ppt/media/image64.gif" ContentType="image/gif"/>
  <Override PartName="/ppt/media/image29.gif" ContentType="image/gif"/>
  <Override PartName="/ppt/media/image71.gif" ContentType="image/gif"/>
  <Override PartName="/ppt/media/image15.jpeg" ContentType="image/jpeg"/>
  <Override PartName="/ppt/media/image18.jpeg" ContentType="image/jpeg"/>
  <Override PartName="/ppt/media/image59.gif" ContentType="image/gif"/>
  <Override PartName="/ppt/media/image73.png" ContentType="image/png"/>
  <Override PartName="/ppt/media/image70.gif" ContentType="image/gif"/>
  <Override PartName="/ppt/media/image28.gif" ContentType="image/gif"/>
  <Override PartName="/ppt/media/image69.gif" ContentType="image/gif"/>
  <Override PartName="/ppt/media/image19.jpeg" ContentType="image/jpeg"/>
  <Override PartName="/ppt/media/image42.jpeg" ContentType="image/jpeg"/>
  <Override PartName="/ppt/media/image38.jpeg" ContentType="image/jpeg"/>
  <Override PartName="/ppt/media/image72.png" ContentType="image/png"/>
  <Override PartName="/ppt/media/image32.jpeg" ContentType="image/jpeg"/>
  <Override PartName="/ppt/media/image24.gif" ContentType="image/gif"/>
  <Override PartName="/ppt/media/image67.gif" ContentType="image/gif"/>
  <Override PartName="/ppt/media/image61.gif" ContentType="image/gif"/>
  <Override PartName="/ppt/media/image14.jpeg" ContentType="image/jpeg"/>
  <Override PartName="/ppt/media/image26.gif" ContentType="image/gif"/>
  <Override PartName="/ppt/media/image3.png" ContentType="image/png"/>
  <Override PartName="/ppt/media/image23.gif" ContentType="image/gif"/>
  <Override PartName="/ppt/media/image60.gif" ContentType="image/gif"/>
  <Override PartName="/ppt/media/image6.jpeg" ContentType="image/jpeg"/>
  <Override PartName="/ppt/media/image25.gif" ContentType="image/gif"/>
  <Override PartName="/ppt/media/image41.jpeg" ContentType="image/jpeg"/>
  <Override PartName="/ppt/media/image63.gif" ContentType="image/gif"/>
  <Override PartName="/ppt/media/image8.png" ContentType="image/png"/>
  <Override PartName="/ppt/media/image45.gif" ContentType="image/gif"/>
  <Override PartName="/ppt/media/image27.gif" ContentType="image/gif"/>
  <Override PartName="/ppt/media/image51.jpeg" ContentType="image/jpeg"/>
  <Override PartName="/ppt/media/image22.jpeg" ContentType="image/jpeg"/>
  <Override PartName="/ppt/media/image65.jpeg" ContentType="image/jpeg"/>
  <Override PartName="/ppt/media/image46.gif" ContentType="image/gif"/>
  <Override PartName="/ppt/media/image7.png" ContentType="image/png"/>
  <Override PartName="/ppt/media/image34.jpeg" ContentType="image/jpeg"/>
  <Override PartName="/ppt/media/image44.gif" ContentType="image/gif"/>
  <Override PartName="/ppt/media/image17.png" ContentType="image/png"/>
  <Override PartName="/ppt/media/image39.jpeg" ContentType="image/jpeg"/>
  <Override PartName="/ppt/media/image5.png" ContentType="image/png"/>
  <Override PartName="/ppt/media/image13.png" ContentType="image/png"/>
  <Override PartName="/ppt/media/image57.gif" ContentType="image/gif"/>
  <Override PartName="/ppt/media/image10.jpeg" ContentType="image/jpeg"/>
  <Override PartName="/ppt/media/image58.gif" ContentType="image/gif"/>
  <Override PartName="/ppt/media/image30.jpeg" ContentType="image/jpeg"/>
  <Override PartName="/ppt/media/image68.gif" ContentType="image/gif"/>
  <Override PartName="/ppt/media/image31.jpeg" ContentType="image/jpeg"/>
  <Override PartName="/ppt/media/image33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30F-58FA-40D1-87E0-78C946AB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9EB-316F-4D49-A768-74508746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283-DF70-4CC8-A601-78F825F5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487-EAD9-4FC4-8ECF-FE157175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2FA6-6B04-40C7-AFAB-F386287C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2DA-D77A-45BA-B235-3DF0EAAF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D35-4B4B-44F1-843B-F362A7C6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1566-74AF-4DF7-9009-D6F162BE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3CD9-6471-44A7-826D-413DB93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6BC0-00B9-4155-AC14-BD2352EC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4A48-16FE-4A01-AF5B-067C9F0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850-EDED-4153-8845-1E515F3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07C1-6F6A-4806-852E-432EE3F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CF16-4C05-4EF8-BB47-7D2947C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5A2C-8FCE-4673-A09C-76D39BFA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4E34-A3E2-4071-94AB-0F84F8BE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B10-91DE-4B28-9C89-56A4853D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044-84A1-430A-BFE0-6FE685CD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367-A7A3-4347-B44D-67CDB4A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6C0-7B81-4092-AFAE-2D8B0DF9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F89-C1A2-4AD5-9835-6A55DA6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4E8-E1E6-4798-AC4E-527D5E4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936-B7EC-4206-8282-C099149F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F5C-B5CE-4CC3-B878-603E38A2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3FA2-B7F5-4B00-883E-58B7861E67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1E85-7D0C-48DE-B62D-C509F563ED3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9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png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60.gif"/><Relationship Id="rId7" Type="http://schemas.openxmlformats.org/officeDocument/2006/relationships/image" Target="../media/image61.gif"/><Relationship Id="rId8" Type="http://schemas.openxmlformats.org/officeDocument/2006/relationships/image" Target="../media/image62.gif"/><Relationship Id="rId9" Type="http://schemas.openxmlformats.org/officeDocument/2006/relationships/image" Target="../media/image63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6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70.gif"/><Relationship Id="rId3" Type="http://schemas.openxmlformats.org/officeDocument/2006/relationships/image" Target="../media/image7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4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83664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рок русского языка в 3 кла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Имя прилагательное – самая красочная часть речи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4" descr="Белый"/>
          <p:cNvPicPr/>
          <p:nvPr/>
        </p:nvPicPr>
        <p:blipFill>
          <a:blip r:embed="rId1"/>
          <a:stretch/>
        </p:blipFill>
        <p:spPr>
          <a:xfrm>
            <a:off x="-396720" y="-171360"/>
            <a:ext cx="9540720" cy="74073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2050920" y="1844640"/>
            <a:ext cx="49723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им был бы наш 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 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8" descr="раскраска ,белая"/>
          <p:cNvPicPr/>
          <p:nvPr/>
        </p:nvPicPr>
        <p:blipFill>
          <a:blip r:embed="rId2"/>
          <a:stretch/>
        </p:blipFill>
        <p:spPr>
          <a:xfrm>
            <a:off x="2843280" y="3141720"/>
            <a:ext cx="3274920" cy="3986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раскраска зеленая"/>
          <p:cNvPicPr/>
          <p:nvPr/>
        </p:nvPicPr>
        <p:blipFill>
          <a:blip r:embed="rId3"/>
          <a:stretch/>
        </p:blipFill>
        <p:spPr>
          <a:xfrm>
            <a:off x="2916360" y="3141720"/>
            <a:ext cx="3240000" cy="4010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коричневый"/>
          <p:cNvPicPr/>
          <p:nvPr/>
        </p:nvPicPr>
        <p:blipFill>
          <a:blip r:embed="rId4"/>
          <a:stretch/>
        </p:blipFill>
        <p:spPr>
          <a:xfrm>
            <a:off x="2987640" y="3068640"/>
            <a:ext cx="3168720" cy="4010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красный"/>
          <p:cNvPicPr/>
          <p:nvPr/>
        </p:nvPicPr>
        <p:blipFill>
          <a:blip r:embed="rId5"/>
          <a:stretch/>
        </p:blipFill>
        <p:spPr>
          <a:xfrm>
            <a:off x="2843280" y="2852640"/>
            <a:ext cx="3220920" cy="429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солныш"/>
          <p:cNvPicPr/>
          <p:nvPr/>
        </p:nvPicPr>
        <p:blipFill>
          <a:blip r:embed="rId6"/>
          <a:stretch/>
        </p:blipFill>
        <p:spPr>
          <a:xfrm>
            <a:off x="611280" y="2852640"/>
            <a:ext cx="1228680" cy="11718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4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6" name="Picture 17" descr="rosen-0061"/>
          <p:cNvPicPr/>
          <p:nvPr/>
        </p:nvPicPr>
        <p:blipFill>
          <a:blip r:embed="rId7"/>
          <a:stretch/>
        </p:blipFill>
        <p:spPr>
          <a:xfrm>
            <a:off x="7451640" y="5589720"/>
            <a:ext cx="720720" cy="707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rosen-0070"/>
          <p:cNvPicPr/>
          <p:nvPr/>
        </p:nvPicPr>
        <p:blipFill>
          <a:blip r:embed="rId8"/>
          <a:stretch/>
        </p:blipFill>
        <p:spPr>
          <a:xfrm>
            <a:off x="6877080" y="5300640"/>
            <a:ext cx="739800" cy="86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rosen-0074"/>
          <p:cNvPicPr/>
          <p:nvPr/>
        </p:nvPicPr>
        <p:blipFill>
          <a:blip r:embed="rId9"/>
          <a:stretch/>
        </p:blipFill>
        <p:spPr>
          <a:xfrm>
            <a:off x="7308720" y="5994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" descr="rosen-0076"/>
          <p:cNvPicPr/>
          <p:nvPr/>
        </p:nvPicPr>
        <p:blipFill>
          <a:blip r:embed="rId10"/>
          <a:stretch/>
        </p:blipFill>
        <p:spPr>
          <a:xfrm>
            <a:off x="6588000" y="5805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btterfly033"/>
          <p:cNvPicPr/>
          <p:nvPr/>
        </p:nvPicPr>
        <p:blipFill>
          <a:blip r:embed="rId11"/>
          <a:stretch/>
        </p:blipFill>
        <p:spPr>
          <a:xfrm>
            <a:off x="7093080" y="227664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3" descr="btterfly029"/>
          <p:cNvPicPr/>
          <p:nvPr/>
        </p:nvPicPr>
        <p:blipFill>
          <a:blip r:embed="rId12"/>
          <a:stretch/>
        </p:blipFill>
        <p:spPr>
          <a:xfrm>
            <a:off x="555480" y="4869000"/>
            <a:ext cx="1784520" cy="186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4"/>
          <p:cNvSpPr/>
          <p:nvPr/>
        </p:nvSpPr>
        <p:spPr>
          <a:xfrm>
            <a:off x="5724360" y="3213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c82b"/>
                </a:solidFill>
                <a:latin typeface="Arial"/>
              </a:rPr>
              <a:t>Зеле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716360" y="551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оричнев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2484360" y="544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2511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WordArt 27"/>
          <p:cNvSpPr txBox="1"/>
          <p:nvPr/>
        </p:nvSpPr>
        <p:spPr>
          <a:xfrm>
            <a:off x="324000" y="1916280"/>
            <a:ext cx="7853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акие еще цвета вы види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артин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6" name="Picture 28" descr="Photo 031"/>
          <p:cNvPicPr/>
          <p:nvPr/>
        </p:nvPicPr>
        <p:blipFill>
          <a:blip r:embed="rId13"/>
          <a:stretch/>
        </p:blipFill>
        <p:spPr>
          <a:xfrm>
            <a:off x="6012000" y="3645000"/>
            <a:ext cx="1152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Имя прилагательное используется для обозначения звук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68360" y="119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Составьте пар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9528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вон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95280" y="3213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ро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39640" y="5013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кати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39640" y="40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рипуч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Picture 10" descr="барабанэ"/>
          <p:cNvPicPr/>
          <p:nvPr/>
        </p:nvPicPr>
        <p:blipFill>
          <a:blip r:embed="rId1"/>
          <a:stretch/>
        </p:blipFill>
        <p:spPr>
          <a:xfrm>
            <a:off x="5867280" y="5516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смех"/>
          <p:cNvPicPr/>
          <p:nvPr/>
        </p:nvPicPr>
        <p:blipFill>
          <a:blip r:embed="rId2"/>
          <a:stretch/>
        </p:blipFill>
        <p:spPr>
          <a:xfrm>
            <a:off x="5940360" y="1916280"/>
            <a:ext cx="936720" cy="984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гром"/>
          <p:cNvPicPr/>
          <p:nvPr/>
        </p:nvPicPr>
        <p:blipFill>
          <a:blip r:embed="rId3"/>
          <a:stretch/>
        </p:blipFill>
        <p:spPr>
          <a:xfrm>
            <a:off x="5867280" y="3068640"/>
            <a:ext cx="1297080" cy="100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сапог"/>
          <p:cNvPicPr/>
          <p:nvPr/>
        </p:nvPicPr>
        <p:blipFill>
          <a:blip r:embed="rId4"/>
          <a:stretch/>
        </p:blipFill>
        <p:spPr>
          <a:xfrm>
            <a:off x="5940360" y="4437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4"/>
          <p:cNvSpPr/>
          <p:nvPr/>
        </p:nvSpPr>
        <p:spPr>
          <a:xfrm>
            <a:off x="4140360" y="2924280"/>
            <a:ext cx="331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А какие еще имена прилагательные, обозначающие звук, вы знает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84 0.02128 C -0.12743 0.01827 -0.19201 0.01619 -0.21927 -0.04326 C -0.24635 -0.10248 -0.20798 -0.25792 -0.22656 -0.33634 C -0.24514 -0.41453 -0.28819 -0.46449 -0.33055 -0.514 E">
                                      <p:cBhvr>
                                        <p:cTn id="19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2 0.02846 C 0.06232 0.02799 0.05903 0.02799 0.0559 0.02684 C 0.05191 0.02545 0.04739 0.01851 0.04392 0.01596 C 0.03958 0.01273 0.03455 0.01088 0.02951 0.00949 C 0.02135 0.0044 0.01198 0.00394 0.00312 0.00185 C -0.01754 0.00278 -0.03733 0.00486 -0.05816 0.00648 C -0.07361 0.00903 -0.08924 0.01018 -0.10486 0.01273 C -0.11146 0.01828 -0.11424 0.01712 -0.12049 0.02522 C -0.12379 0.03863 -0.11875 0.0229 -0.12518 0.03146 C -0.12604 0.03262 -0.12552 0.03493 -0.12656 0.03632 C -0.12813 0.03887 -0.13143 0.04002 -0.13368 0.04095 C -0.14236 0.05228 -0.13247 0.0384 -0.13976 0.05182 C -0.14323 0.0583 -0.14254 0.05506 -0.14688 0.05968 C -0.15955 0.07356 -0.14306 0.05645 -0.15295 0.06917 C -0.15521 0.07218 -0.15781 0.07403 -0.16007 0.07703 C -0.16198 0.08351 -0.16215 0.08606 -0.16615 0.09114 C -0.16893 0.10132 -0.16511 0.09045 -0.17101 0.09901 C -0.17292 0.10178 -0.1757 0.10826 -0.1757 0.10849 C -0.17813 0.11798 -0.17952 0.12284 -0.18403 0.13186 C -0.18559 0.1351 -0.18906 0.14134 -0.18906 0.14157 C -0.18959 0.14319 -0.19063 0.1499 -0.19254 0.15059 C -0.20122 0.15383 -0.21302 0.15383 -0.22257 0.15684 C -0.23004 0.15915 -0.23663 0.16424 -0.2441 0.16632 C -0.26059 0.16586 -0.27691 0.16563 -0.2934 0.1647 C -0.29809 0.16447 -0.30226 0.16193 -0.3066 0.16008 C -0.31111 0.158 -0.32188 0.15846 -0.32691 0.15846 E">
                                      <p:cBhvr>
                                        <p:cTn id="2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3 0.01411 C -0.06823 0.06523 -0.08698 0.11612 -0.12066 0.13185 C -0.15416 0.14758 -0.24392 0.13254 -0.25121 0.10779 C -0.2585 0.08327 -0.14965 0.01041 -0.16406 -0.0162 C -0.17864 -0.0428 -0.3092 -0.04604 -0.33819 -0.05182 E">
                                      <p:cBhvr>
                                        <p:cTn id="20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0.06963 C -0.12031 0.0347 -0.19028 0.000230000000000001 -0.23559 0.04118 C -0.28108 0.08212 -0.30799 0.26903 -0.32274 0.31506 E">
                                      <p:cBhvr>
                                        <p:cTn id="206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Копия 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8"/>
          <p:cNvSpPr/>
          <p:nvPr/>
        </p:nvSpPr>
        <p:spPr>
          <a:xfrm>
            <a:off x="2411280" y="1197000"/>
            <a:ext cx="4321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же имена прилагательные используются для обозначе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2511"/>
                </a:solidFill>
                <a:latin typeface="Times New Roman"/>
              </a:rPr>
              <a:t>запаха, формы, движения, ощущения и т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примеры!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Фон 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71" name="WordArt 6"/>
          <p:cNvSpPr txBox="1"/>
          <p:nvPr/>
        </p:nvSpPr>
        <p:spPr>
          <a:xfrm>
            <a:off x="1763640" y="1125360"/>
            <a:ext cx="511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 ДЛЯ ГЛАЗ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снежинка 1"/>
          <p:cNvPicPr/>
          <p:nvPr/>
        </p:nvPicPr>
        <p:blipFill>
          <a:blip r:embed="rId2"/>
          <a:stretch/>
        </p:blipFill>
        <p:spPr>
          <a:xfrm>
            <a:off x="1042920" y="836640"/>
            <a:ext cx="1139760" cy="115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снежинка 2"/>
          <p:cNvPicPr/>
          <p:nvPr/>
        </p:nvPicPr>
        <p:blipFill>
          <a:blip r:embed="rId3"/>
          <a:stretch/>
        </p:blipFill>
        <p:spPr>
          <a:xfrm>
            <a:off x="6156360" y="3860640"/>
            <a:ext cx="1368360" cy="1081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снежинка 3"/>
          <p:cNvPicPr/>
          <p:nvPr/>
        </p:nvPicPr>
        <p:blipFill>
          <a:blip r:embed="rId4"/>
          <a:stretch/>
        </p:blipFill>
        <p:spPr>
          <a:xfrm>
            <a:off x="3635280" y="2421000"/>
            <a:ext cx="1197000" cy="1041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снежинка 4"/>
          <p:cNvPicPr/>
          <p:nvPr/>
        </p:nvPicPr>
        <p:blipFill>
          <a:blip r:embed="rId5"/>
          <a:stretch/>
        </p:blipFill>
        <p:spPr>
          <a:xfrm>
            <a:off x="6156360" y="981000"/>
            <a:ext cx="1096920" cy="94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снежинка 5"/>
          <p:cNvPicPr/>
          <p:nvPr/>
        </p:nvPicPr>
        <p:blipFill>
          <a:blip r:embed="rId6"/>
          <a:stretch/>
        </p:blipFill>
        <p:spPr>
          <a:xfrm>
            <a:off x="1116000" y="378936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СНЕЖИНКА 6"/>
          <p:cNvPicPr/>
          <p:nvPr/>
        </p:nvPicPr>
        <p:blipFill>
          <a:blip r:embed="rId7"/>
          <a:stretch/>
        </p:blipFill>
        <p:spPr>
          <a:xfrm>
            <a:off x="3635280" y="5157720"/>
            <a:ext cx="1297080" cy="1133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1"/>
          <p:cNvSpPr/>
          <p:nvPr/>
        </p:nvSpPr>
        <p:spPr>
          <a:xfrm>
            <a:off x="1835280" y="1890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леди глазами за снежинка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15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1155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39 0.01179 C -0.10451 0.01041 -0.13142 0.01133 -0.1618 0.00231 C -0.16667 -0.00185 -0.16927 -0.00579 -0.17483 -0.00879 C -0.17986 -0.01527 -0.18559 -0.01943 -0.19236 -0.0229 C -0.19323 -0.02452 -0.19375 -0.02591 -0.19479 -0.02753 C -0.19583 -0.02892 -0.19739 -0.02938 -0.19826 -0.03054 C -0.20017 -0.03354 -0.20104 -0.03748 -0.20295 -0.04002 C -0.20417 -0.04164 -0.20538 -0.04303 -0.2066 -0.04465 C -0.20851 -0.05459 -0.21163 -0.0613 -0.21823 -0.06685 C -0.21927 -0.07541 -0.21944 -0.09207 -0.22309 -0.09947 C -0.22674 -0.10687 -0.22483 -0.10225 -0.22778 -0.11358 C -0.23073 -0.12492 -0.23177 -0.13787 -0.23368 -0.14967 C -0.23594 -0.18807 -0.23559 -0.1728 -0.23368 -0.23896 C -0.23351 -0.24636 -0.23229 -0.25307 -0.22778 -0.25769 C -0.22552 -0.26001 -0.22066 -0.26394 -0.22066 -0.26394 C -0.21736 -0.27065 -0.21111 -0.27712 -0.20538 -0.27967 C -0.20208 -0.2843 -0.19878 -0.28707 -0.19479 -0.29077 C -0.1908 -0.29841 -0.18576 -0.30141 -0.17951 -0.30488 C -0.17274 -0.3139 -0.16389 -0.31252 -0.15486 -0.31414 C -0.1493 -0.31506 -0.13837 -0.31737 -0.13837 -0.31737 C -0.08663 -0.31691 -0.03472 -0.31668 0.01701 -0.31576 C 0.06389 -0.31483 0.11163 -0.30604 0.15816 -0.30003 C 0.18056 -0.29725 0.20295 -0.29725 0.22517 -0.29216 C 0.23351 -0.28684 0.23924 -0.28568 0.24879 -0.28453 C 0.26927 -0.27481 0.25955 -0.27736 0.27813 -0.27504 C 0.29149 -0.27042 0.30313 -0.26325 0.31701 -0.26093 C 0.32535 -0.25538 0.33247 -0.25469 0.34167 -0.25307 C 0.35347 -0.24497 0.36771 -0.24011 0.38056 -0.23572 C 0.3842 -0.22808 0.39427 -0.22762 0.40052 -0.22485 C 0.40399 -0.2186 0.40573 -0.21606 0.41111 -0.21397 C 0.41684 -0.20865 0.4184 -0.20033 0.42396 -0.19524 C 0.4257 -0.18853 0.42986 -0.18575 0.43351 -0.1809 C 0.43386 -0.17928 0.43403 -0.17766 0.43455 -0.17627 C 0.43524 -0.17465 0.43646 -0.17349 0.43698 -0.17164 C 0.43993 -0.16031 0.43889 -0.14735 0.4441 -0.13718 C 0.44583 -0.12399 0.44792 -0.11104 0.45 -0.09785 C 0.44948 -0.08189 0.45278 -0.05529 0.44288 -0.04164 C 0.4408 -0.03354 0.43733 -0.02244 0.43108 -0.01943 C 0.42899 -0.00926 0.42813 -0.00671 0.42292 0.00069 C 0.42101 0.00786 0.41597 0.01295 0.41111 0.01642 C 0.40486 0.02845 0.39566 0.034 0.38524 0.03817 C 0.37361 0.05459 0.33958 0.04881 0.32639 0.0495 C 0.31823 0.05228 0.3099 0.0569 0.30174 0.05875 C 0.29861 0.05945 0.29531 0.05968 0.29219 0.06037 C 0.29028 0.06083 0.28837 0.06153 0.28646 0.06199 C 0.27813 0.06939 0.24219 0.06754 0.22517 0.06986 C 0.21024 0.07934 0.23333 0.06523 0.21337 0.07448 C 0.19722 0.08189 0.18333 0.09646 0.16528 0.09808 C 0.14375 0.09993 0.12205 0.10085 0.10052 0.1027 C 0.08403 0.10733 0.06788 0.11057 0.05104 0.11219 C 0.03594 0.11658 0.02049 0.12005 0.00521 0.12306 C -0.01094 0.13046 -0.01476 0.12838 -0.03715 0.12931 C -0.05243 0.13069 -0.06771 0.13278 -0.08299 0.13416 C -0.09757 0.1411 -0.09149 0.13879 -0.10069 0.14203 C -0.10451 0.14527 -0.10868 0.14804 -0.1125 0.15128 C -0.11927 0.16585 -0.11007 0.14851 -0.11823 0.15753 C -0.12674 0.16678 -0.11753 0.16192 -0.12535 0.16539 C -0.12917 0.16909 -0.13316 0.17279 -0.13715 0.1765 C -0.14028 0.18274 -0.14375 0.18806 -0.14774 0.19361 C -0.15017 0.2031 -0.14705 0.195 -0.15243 0.19986 C -0.15625 0.2031 -0.15799 0.20888 -0.1618 0.21235 C -0.16458 0.22137 -0.16892 0.226 -0.17239 0.23433 C -0.17639 0.24358 -0.17864 0.25954 -0.18177 0.27041 C -0.18333 0.28267 -0.18733 0.29401 -0.1901 0.30627 C -0.19184 0.3139 -0.19114 0.32269 -0.19358 0.33009 C -0.2 0.34929 -0.19722 0.33911 -0.20191 0.36132 C -0.20226 0.3678 -0.20139 0.3752 -0.20295 0.38145 C -0.20573 0.39394 -0.21476 0.41776 -0.21476 0.41776 C -0.2184 0.4409 -0.22639 0.46033 -0.23003 0.48346 C -0.23333 0.52556 -0.22812 0.47421 -0.23594 0.51353 C -0.23802 0.5244 -0.23767 0.53597 -0.24062 0.54638 C -0.24566 0.5635 -0.24392 0.55632 -0.24774 0.57761 C -0.24983 0.58963 -0.25035 0.60328 -0.25833 0.61068 C -0.26892 0.60791 -0.2658 0.60536 -0.27239 0.59657 C -0.27361 0.59148 -0.27708 0.58755 -0.2783 0.58246 C -0.2816 0.56928 -0.28194 0.55309 -0.29132 0.54476 C -0.29722 0.51792 -0.29496 0.48947 -0.30191 0.4631 C -0.30364 0.45709 -0.30382 0.44714 -0.30781 0.44298 E">
                                      <p:cBhvr>
                                        <p:cTn id="269" dur="3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0.09138 C 0.0066 -0.09785 0.01493 -0.10826 0.01892 -0.11335 C 0.02031 -0.1152 0.02292 -0.11428 0.02483 -0.11497 C 0.03576 -0.11913 0.04653 -0.12214 0.05781 -0.12446 C 0.07239 -0.13024 0.08854 -0.12908 0.10364 -0.1307 C 0.14444 -0.13024 0.18524 -0.13139 0.22604 -0.12908 C 0.23906 -0.12839 0.25434 -0.11775 0.26719 -0.11335 C 0.27187 -0.10919 0.27708 -0.10896 0.28246 -0.10711 C 0.28854 -0.10155 0.29271 -0.09508 0.29896 -0.08999 C 0.30035 -0.08328 0.30087 -0.08097 0.30486 -0.07588 C 0.30937 -0.06292 0.31684 -0.0546 0.32239 -0.0428 C 0.32396 -0.03956 0.32483 -0.03563 0.32708 -0.03355 C 0.32951 -0.03146 0.3342 -0.02707 0.3342 -0.02707 C 0.33854 -0.01573 0.34323 -0.00347 0.34826 0.0074 C 0.34861 0.01156 0.34861 0.01573 0.34948 0.01989 C 0.35017 0.02313 0.35555 0.02914 0.3566 0.03053 C 0.36007 0.03631 0.36441 0.04464 0.36719 0.05112 C 0.37257 0.06453 0.36719 0.0606 0.37413 0.06384 C 0.37708 0.07494 0.37969 0.07517 0.38837 0.07934 C 0.39184 0.08697 0.39826 0.08905 0.40486 0.09044 C 0.40851 0.09229 0.41302 0.0909 0.41649 0.09345 C 0.41805 0.09461 0.41753 0.09831 0.41892 0.09969 C 0.42014 0.10108 0.42205 0.10085 0.42361 0.10131 C 0.43437 0.11034 0.42934 0.10779 0.43767 0.1108 C 0.44323 0.11612 0.44983 0.12213 0.4566 0.12468 C 0.46805 0.12954 0.47969 0.12977 0.49062 0.13717 C 0.50156 0.13694 0.51267 0.13671 0.52361 0.13578 C 0.52674 0.13555 0.52812 0.13254 0.53073 0.13092 C 0.53299 0.12977 0.53767 0.12792 0.53767 0.12792 C 0.61927 0.13 0.57621 0.13023 0.61649 0.13416 C 0.62795 0.13671 0.63924 0.13902 0.65069 0.14064 C 0.65799 0.14341 0.66302 0.14527 0.67066 0.14688 C 0.67448 0.1485 0.68125 0.15475 0.68125 0.15475 C 0.68455 0.1714 0.67969 0.15244 0.68594 0.16377 C 0.68819 0.16793 0.68906 0.17349 0.69062 0.17811 C 0.69305 0.18551 0.69774 0.19986 0.69774 0.19986 C 0.69878 0.20772 0.70052 0.21281 0.70243 0.22021 C 0.70364 0.23247 0.70521 0.24219 0.7059 0.25468 C 0.70694 0.31691 0.70642 0.31251 0.71302 0.3553 C 0.71267 0.3708 0.71267 0.38676 0.7118 0.40203 C 0.71163 0.40596 0.71111 0.41013 0.70955 0.41313 C 0.70712 0.41799 0.70486 0.42262 0.70243 0.42748 C 0.70156 0.42886 0.7 0.43187 0.7 0.43187 C 0.69774 0.44182 0.69687 0.452 0.69427 0.46171 C 0.6934 0.46495 0.69184 0.4712 0.69184 0.4712 C 0.68924 0.49479 0.69236 0.48669 0.68715 0.49803 C 0.68559 0.51006 0.68611 0.52648 0.68125 0.53712 C 0.67951 0.54082 0.6776 0.54476 0.67535 0.54776 C 0.67413 0.54961 0.67292 0.551 0.67187 0.55285 C 0.66632 0.56303 0.66493 0.56396 0.6566 0.56835 C 0.64896 0.5783 0.64983 0.5783 0.6401 0.58084 C 0.6309 0.58709 0.6191 0.59703 0.60955 0.59958 C 0.60694 0.60189 0.60521 0.60582 0.60243 0.60768 C 0.59184 0.61508 0.58351 0.613 0.57066 0.61392 C 0.5651 0.61554 0.56163 0.6197 0.5566 0.62317 C 0.5533 0.62988 0.54983 0.63659 0.54722 0.64376 C 0.54462 0.65047 0.54739 0.64631 0.54479 0.65001 E">
                                      <p:cBhvr>
                                        <p:cTn id="272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74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27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6 0.017 0.02132 0.021 0.03464 C 0.025 0.0493 0.027 0.06662 0.029 0.08394 C 0.031 0.10126 0.029 0.11592 0.027 0.13191 C 0.025 0.14656 0.022 0.16255 0.015 0.17588 C 0.009 0.1892 -0.001 0.19986 -0.012 0.20786 C -0.022 0.21585 -0.034 0.22118 -0.046 0.22384 C -0.058 0.22651 -0.07 0.22651 -0.081 0.22384 C -0.093 0.22118 -0.104 0.21452 -0.113 0.20386 C -0.122 0.19453 -0.13 0.18254 -0.134 0.16788 C -0.139 0.15456 -0.141 0.13591 -0.141 0.12125 C -0.142 0.10659 -0.141 0.08927 -0.136 0.07461 C -0.131 0.06129 -0.122 0.05063 -0.11 0.0453 C -0.098 0.0413 -0.086 0.04663 -0.078 0.05596 C -0.071 0.06529 -0.066 0.07994 -0.065 0.09727 C -0.065 0.11459 -0.066 0.13058 -0.071 0.1439 C -0.076 0.15722 -0.075 0.15989 -0.095 0.17721 C -0.113 0.19586 -0.131 0.19053 -0.142 0.19187 C -0.153 0.19187 -0.162 0.18654 -0.173 0.18121 C -0.185 0.17455 -0.195 0.16255 -0.202 0.15189 C -0.209 0.14124 -0.212 0.12791 -0.216 0.10659 C -0.219 0.08527 -0.219 0.07461 -0.219 0.05863 C -0.219 0.04264 -0.219 0.02665 -0.219 0.01066 E">
                                      <p:cBhvr>
                                        <p:cTn id="278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-0.09299 C 0.28629 -0.10432 0.36233 -0.08721 0.31407 -0.10108 C 0.27761 -0.11173 0.22136 -0.12144 0.18056 -0.13046 C 0.16598 -0.13763 0.14479 -0.14226 0.1316 -0.14966 C 0.11997 -0.15637 0.11563 -0.16447 0.10174 -0.17071 C 0.08559 -0.17788 0.06372 -0.18205 0.04688 -0.18875 C 0.02865 -0.19593 0.02726 -0.20448 0.00243 -0.20981 C -0.0092 -0.22715 0.00903 -0.20541 -0.01718 -0.22091 C -0.0283 -0.22762 -0.03628 -0.23803 -0.04201 -0.24543 C -0.05521 -0.26162 -0.05885 -0.28105 -0.08593 -0.29563 C -0.09166 -0.30974 -0.10625 -0.32246 -0.12083 -0.33587 C -0.13541 -0.37381 -0.12968 -0.4092 -0.12604 -0.44783 C -0.12378 -0.46912 -0.12604 -0.49364 -0.11076 -0.51445 C -0.10781 -0.51769 -0.09896 -0.52047 -0.096 -0.52394 C -0.07569 -0.54753 -0.05451 -0.56905 -0.01718 -0.59033 C -0.00191 -0.59889 0.0316 -0.60675 0.05712 -0.61138 C 0.10469 -0.62063 0.03525 -0.60837 0.08716 -0.61947 C 0.09948 -0.62225 0.11407 -0.62341 0.12657 -0.62595 C 0.15868 -0.63266 0.1908 -0.64099 0.22066 -0.64862 C 0.24479 -0.65487 0.26875 -0.65787 0.29445 -0.66343 C 0.3257 -0.67013 0.32431 -0.66273 0.32431 -0.66805 E">
                                      <p:cBhvr>
                                        <p:cTn id="281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3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0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7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16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23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исло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4360" y="1413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ЕДИН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067280" y="14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НОЖЕ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mel_and_butterfly_sx"/>
          <p:cNvPicPr/>
          <p:nvPr/>
        </p:nvPicPr>
        <p:blipFill>
          <a:blip r:embed="rId1"/>
          <a:stretch/>
        </p:blipFill>
        <p:spPr>
          <a:xfrm>
            <a:off x="468360" y="5157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sisters_walking_sx"/>
          <p:cNvPicPr/>
          <p:nvPr/>
        </p:nvPicPr>
        <p:blipFill>
          <a:blip r:embed="rId2"/>
          <a:stretch/>
        </p:blipFill>
        <p:spPr>
          <a:xfrm>
            <a:off x="6156360" y="5013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shiney_goldfish_swimm_a_sx"/>
          <p:cNvPicPr/>
          <p:nvPr/>
        </p:nvPicPr>
        <p:blipFill>
          <a:blip r:embed="rId3"/>
          <a:stretch/>
        </p:blipFill>
        <p:spPr>
          <a:xfrm>
            <a:off x="468360" y="29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school_of_goldfish_sx"/>
          <p:cNvPicPr/>
          <p:nvPr/>
        </p:nvPicPr>
        <p:blipFill>
          <a:blip r:embed="rId4"/>
          <a:stretch/>
        </p:blipFill>
        <p:spPr>
          <a:xfrm>
            <a:off x="6156360" y="2924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баблочка"/>
          <p:cNvPicPr/>
          <p:nvPr/>
        </p:nvPicPr>
        <p:blipFill>
          <a:blip r:embed="rId5"/>
          <a:stretch/>
        </p:blipFill>
        <p:spPr>
          <a:xfrm>
            <a:off x="46836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бабочки"/>
          <p:cNvPicPr/>
          <p:nvPr/>
        </p:nvPicPr>
        <p:blipFill>
          <a:blip r:embed="rId6"/>
          <a:stretch/>
        </p:blipFill>
        <p:spPr>
          <a:xfrm>
            <a:off x="5796000" y="184464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котята"/>
          <p:cNvPicPr/>
          <p:nvPr/>
        </p:nvPicPr>
        <p:blipFill>
          <a:blip r:embed="rId7"/>
          <a:stretch/>
        </p:blipFill>
        <p:spPr>
          <a:xfrm>
            <a:off x="6012000" y="3789360"/>
            <a:ext cx="876240" cy="72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котенок2"/>
          <p:cNvPicPr/>
          <p:nvPr/>
        </p:nvPicPr>
        <p:blipFill>
          <a:blip r:embed="rId8"/>
          <a:stretch/>
        </p:blipFill>
        <p:spPr>
          <a:xfrm>
            <a:off x="395280" y="4005360"/>
            <a:ext cx="936720" cy="792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7"/>
          <p:cNvSpPr/>
          <p:nvPr/>
        </p:nvSpPr>
        <p:spPr>
          <a:xfrm>
            <a:off x="2627280" y="2276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436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556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484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ен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4000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643280" y="2349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78800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716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я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478800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WordArt 26"/>
          <p:cNvSpPr txBox="1"/>
          <p:nvPr/>
        </p:nvSpPr>
        <p:spPr>
          <a:xfrm>
            <a:off x="1332000" y="227664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1332000" y="3141720"/>
            <a:ext cx="10080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WordArt 28"/>
          <p:cNvSpPr txBox="1"/>
          <p:nvPr/>
        </p:nvSpPr>
        <p:spPr>
          <a:xfrm>
            <a:off x="125892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WordArt 29"/>
          <p:cNvSpPr txBox="1"/>
          <p:nvPr/>
        </p:nvSpPr>
        <p:spPr>
          <a:xfrm>
            <a:off x="147636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3635280" y="220500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3564000" y="3068640"/>
            <a:ext cx="1008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49236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385128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Род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Picture 7" descr="clown_bukett"/>
          <p:cNvPicPr/>
          <p:nvPr/>
        </p:nvPicPr>
        <p:blipFill>
          <a:blip r:embed="rId2"/>
          <a:stretch/>
        </p:blipFill>
        <p:spPr>
          <a:xfrm>
            <a:off x="0" y="1413000"/>
            <a:ext cx="1905120" cy="1850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1835280" y="1773360"/>
            <a:ext cx="129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Веселый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Муж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148360" y="1844640"/>
            <a:ext cx="15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ая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Нарядная Пушист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Жен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Picture 8" descr="солнце"/>
          <p:cNvPicPr/>
          <p:nvPr/>
        </p:nvPicPr>
        <p:blipFill>
          <a:blip r:embed="rId3"/>
          <a:stretch/>
        </p:blipFill>
        <p:spPr>
          <a:xfrm>
            <a:off x="2050920" y="4221000"/>
            <a:ext cx="1812960" cy="16066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"/>
          <p:cNvSpPr/>
          <p:nvPr/>
        </p:nvSpPr>
        <p:spPr>
          <a:xfrm>
            <a:off x="3995640" y="4221000"/>
            <a:ext cx="16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е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Теплое 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Сред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4" name="Picture 11" descr="elka[1]"/>
          <p:cNvPicPr/>
          <p:nvPr/>
        </p:nvPicPr>
        <p:blipFill>
          <a:blip r:embed="rId4"/>
          <a:stretch/>
        </p:blipFill>
        <p:spPr>
          <a:xfrm>
            <a:off x="3708360" y="1341360"/>
            <a:ext cx="1440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дберите имена прилагательные к следующим именам существительным. Определите род и число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4" descr="щенок"/>
          <p:cNvPicPr/>
          <p:nvPr/>
        </p:nvPicPr>
        <p:blipFill>
          <a:blip r:embed="rId1"/>
          <a:stretch/>
        </p:blipFill>
        <p:spPr>
          <a:xfrm>
            <a:off x="250920" y="2205000"/>
            <a:ext cx="1333440" cy="1066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125892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ар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8" name="Picture 6" descr="Роза"/>
          <p:cNvPicPr/>
          <p:nvPr/>
        </p:nvPicPr>
        <p:blipFill>
          <a:blip r:embed="rId2"/>
          <a:stretch/>
        </p:blipFill>
        <p:spPr>
          <a:xfrm>
            <a:off x="2987640" y="2205000"/>
            <a:ext cx="866880" cy="12477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7"/>
          <p:cNvSpPr/>
          <p:nvPr/>
        </p:nvSpPr>
        <p:spPr>
          <a:xfrm>
            <a:off x="3708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з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8" descr="elefant-0018"/>
          <p:cNvPicPr/>
          <p:nvPr/>
        </p:nvPicPr>
        <p:blipFill>
          <a:blip r:embed="rId3"/>
          <a:stretch/>
        </p:blipFill>
        <p:spPr>
          <a:xfrm>
            <a:off x="5292720" y="2421000"/>
            <a:ext cx="1081080" cy="863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637236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ло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Picture 10" descr="звезды"/>
          <p:cNvPicPr/>
          <p:nvPr/>
        </p:nvPicPr>
        <p:blipFill>
          <a:blip r:embed="rId4"/>
          <a:stretch/>
        </p:blipFill>
        <p:spPr>
          <a:xfrm>
            <a:off x="179280" y="3860640"/>
            <a:ext cx="1308240" cy="1113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125892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везд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13" descr="Photo 011"/>
          <p:cNvPicPr/>
          <p:nvPr/>
        </p:nvPicPr>
        <p:blipFill>
          <a:blip r:embed="rId5"/>
          <a:stretch/>
        </p:blipFill>
        <p:spPr>
          <a:xfrm>
            <a:off x="2916360" y="3716280"/>
            <a:ext cx="1228680" cy="13525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4"/>
          <p:cNvSpPr/>
          <p:nvPr/>
        </p:nvSpPr>
        <p:spPr>
          <a:xfrm>
            <a:off x="4067280" y="422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ор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6" name="Picture 15" descr="кольцо"/>
          <p:cNvPicPr/>
          <p:nvPr/>
        </p:nvPicPr>
        <p:blipFill>
          <a:blip r:embed="rId6"/>
          <a:stretch/>
        </p:blipFill>
        <p:spPr>
          <a:xfrm>
            <a:off x="5292720" y="3860640"/>
            <a:ext cx="1225440" cy="86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6"/>
          <p:cNvSpPr/>
          <p:nvPr/>
        </p:nvSpPr>
        <p:spPr>
          <a:xfrm>
            <a:off x="6300720" y="422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ьц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8" name="Picture 17" descr="привидение"/>
          <p:cNvPicPr/>
          <p:nvPr/>
        </p:nvPicPr>
        <p:blipFill>
          <a:blip r:embed="rId7"/>
          <a:stretch/>
        </p:blipFill>
        <p:spPr>
          <a:xfrm>
            <a:off x="3203640" y="5300640"/>
            <a:ext cx="887400" cy="11113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8"/>
          <p:cNvSpPr/>
          <p:nvPr/>
        </p:nvSpPr>
        <p:spPr>
          <a:xfrm>
            <a:off x="3924360" y="558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вид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Picture 20" descr="шары"/>
          <p:cNvPicPr/>
          <p:nvPr/>
        </p:nvPicPr>
        <p:blipFill>
          <a:blip r:embed="rId8"/>
          <a:stretch/>
        </p:blipFill>
        <p:spPr>
          <a:xfrm>
            <a:off x="5580000" y="5229360"/>
            <a:ext cx="714600" cy="11905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1"/>
          <p:cNvSpPr/>
          <p:nvPr/>
        </p:nvSpPr>
        <p:spPr>
          <a:xfrm>
            <a:off x="637236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Шар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2" name="Picture 22" descr="лошадь"/>
          <p:cNvPicPr/>
          <p:nvPr/>
        </p:nvPicPr>
        <p:blipFill>
          <a:blip r:embed="rId9"/>
          <a:stretch/>
        </p:blipFill>
        <p:spPr>
          <a:xfrm>
            <a:off x="179280" y="522936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3"/>
          <p:cNvSpPr/>
          <p:nvPr/>
        </p:nvSpPr>
        <p:spPr>
          <a:xfrm>
            <a:off x="1763640" y="566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ошад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8"/>
          <p:cNvGrpSpPr/>
          <p:nvPr/>
        </p:nvGrpSpPr>
        <p:grpSpPr>
          <a:xfrm>
            <a:off x="324000" y="1052640"/>
            <a:ext cx="7314840" cy="2057040"/>
            <a:chOff x="324000" y="1052640"/>
            <a:chExt cx="7314840" cy="2057040"/>
          </a:xfrm>
        </p:grpSpPr>
        <p:pic>
          <p:nvPicPr>
            <p:cNvPr id="335" name="Picture 9" descr="baby18[1]"/>
            <p:cNvPicPr/>
            <p:nvPr/>
          </p:nvPicPr>
          <p:blipFill>
            <a:blip r:embed="rId1"/>
            <a:stretch/>
          </p:blipFill>
          <p:spPr>
            <a:xfrm>
              <a:off x="324000" y="1299240"/>
              <a:ext cx="1067400" cy="18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0"/>
            <p:cNvSpPr/>
            <p:nvPr/>
          </p:nvSpPr>
          <p:spPr>
            <a:xfrm>
              <a:off x="1858680" y="1052640"/>
              <a:ext cx="578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2700360" y="260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1403280" y="476280"/>
            <a:ext cx="1944720" cy="10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9" name="Picture 10" descr="вопрос"/>
          <p:cNvPicPr/>
          <p:nvPr/>
        </p:nvPicPr>
        <p:blipFill>
          <a:blip r:embed="rId2"/>
          <a:stretch/>
        </p:blipFill>
        <p:spPr>
          <a:xfrm>
            <a:off x="2124000" y="620640"/>
            <a:ext cx="593640" cy="7207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2"/>
          <p:cNvSpPr/>
          <p:nvPr/>
        </p:nvSpPr>
        <p:spPr>
          <a:xfrm>
            <a:off x="2124000" y="1557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Что общего у имени прилагательного с именем существительны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124000" y="26370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акие грамматические признаки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 них общи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10800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169236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AutoShape 17"/>
          <p:cNvSpPr/>
          <p:nvPr/>
        </p:nvSpPr>
        <p:spPr>
          <a:xfrm>
            <a:off x="3276720" y="3645000"/>
            <a:ext cx="13665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4788000" y="3645000"/>
            <a:ext cx="13683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AutoShape 19"/>
          <p:cNvSpPr/>
          <p:nvPr/>
        </p:nvSpPr>
        <p:spPr>
          <a:xfrm>
            <a:off x="6300720" y="3645000"/>
            <a:ext cx="144000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17928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рав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е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1763640" y="37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с гус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334800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широ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4859280" y="378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Цве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ы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р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Text Box 27"/>
          <p:cNvSpPr/>
          <p:nvPr/>
        </p:nvSpPr>
        <p:spPr>
          <a:xfrm>
            <a:off x="6372360" y="378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ниг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терес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AutoShape 28"/>
          <p:cNvSpPr/>
          <p:nvPr/>
        </p:nvSpPr>
        <p:spPr>
          <a:xfrm rot="16200000">
            <a:off x="2232000" y="2600280"/>
            <a:ext cx="358560" cy="446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 rot="16200000">
            <a:off x="532908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AutoShape 30"/>
          <p:cNvSpPr/>
          <p:nvPr/>
        </p:nvSpPr>
        <p:spPr>
          <a:xfrm rot="16200000">
            <a:off x="684180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1547640" y="501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478800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Text Box 33"/>
          <p:cNvSpPr/>
          <p:nvPr/>
        </p:nvSpPr>
        <p:spPr>
          <a:xfrm>
            <a:off x="6372360" y="501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АДЕЖ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Text Box 34"/>
          <p:cNvSpPr/>
          <p:nvPr/>
        </p:nvSpPr>
        <p:spPr>
          <a:xfrm>
            <a:off x="468360" y="57340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чему в тексте имя прилагательное и имя существительное всегда вмес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4"/>
          <p:cNvSpPr/>
          <p:nvPr/>
        </p:nvSpPr>
        <p:spPr>
          <a:xfrm>
            <a:off x="324000" y="476280"/>
            <a:ext cx="2879640" cy="1584360"/>
          </a:xfrm>
          <a:prstGeom prst="downArrowCallout">
            <a:avLst>
              <a:gd name="adj1" fmla="val 45443"/>
              <a:gd name="adj2" fmla="val 45439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95280" y="549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356000" y="476280"/>
            <a:ext cx="2880000" cy="1584360"/>
          </a:xfrm>
          <a:prstGeom prst="downArrowCallout">
            <a:avLst>
              <a:gd name="adj1" fmla="val 45448"/>
              <a:gd name="adj2" fmla="val 4544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4427640" y="620640"/>
            <a:ext cx="26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39528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442764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539640" y="234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ЕДМ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572000" y="234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ИЗНАК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ЕДМ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 rot="10800000">
            <a:off x="3203280" y="2492280"/>
            <a:ext cx="1150920" cy="72072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250920" y="45086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мя прилагательное неразрывно связано с именем существительным и используется для его уточ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1908000" y="378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6"/>
          <p:cNvSpPr/>
          <p:nvPr/>
        </p:nvSpPr>
        <p:spPr>
          <a:xfrm>
            <a:off x="1619280" y="407664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7" descr="ФОН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8"/>
          <p:cNvSpPr txBox="1"/>
          <p:nvPr/>
        </p:nvSpPr>
        <p:spPr>
          <a:xfrm>
            <a:off x="395280" y="3716280"/>
            <a:ext cx="8353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806616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</a:rPr>
              <a:t>Самая красочная часть ре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900000" y="2133720"/>
            <a:ext cx="590544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ЗКУЛЬТ. МИНУТ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71" name="Picture 5" descr="физкульт минутка"/>
          <p:cNvPicPr/>
          <p:nvPr/>
        </p:nvPicPr>
        <p:blipFill>
          <a:blip r:embed="rId1"/>
          <a:stretch/>
        </p:blipFill>
        <p:spPr>
          <a:xfrm>
            <a:off x="2484360" y="2637000"/>
            <a:ext cx="3009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6"/>
          <p:cNvSpPr/>
          <p:nvPr/>
        </p:nvSpPr>
        <p:spPr>
          <a:xfrm>
            <a:off x="324000" y="549360"/>
            <a:ext cx="69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тгадываем загадки, находим имена прилагательные и повторяем движения персонажей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539640" y="206064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реках Африки жив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лой зеле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ароход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б навстречу ни поплыл 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сех проглотит 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3348000" y="2133720"/>
            <a:ext cx="37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нтарктиде среди льд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одит в фраке день деньск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ылья есть, но не лета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ихо в прорубь он ныря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чень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важ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господин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еменит сюда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5" name="Picture 1" descr="http://www.gifpark.ru/Gifs/ANIMALS/ani-penguin_dancing.gif"/>
          <p:cNvPicPr/>
          <p:nvPr/>
        </p:nvPicPr>
        <p:blipFill>
          <a:blip r:embed="rId1"/>
          <a:stretch/>
        </p:blipFill>
        <p:spPr>
          <a:xfrm>
            <a:off x="4500720" y="38606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http://gsmnet.ru/anime/a23.gif"/>
          <p:cNvPicPr/>
          <p:nvPr/>
        </p:nvPicPr>
        <p:blipFill>
          <a:blip r:embed="rId2"/>
          <a:stretch/>
        </p:blipFill>
        <p:spPr>
          <a:xfrm>
            <a:off x="900000" y="3789360"/>
            <a:ext cx="1714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468360" y="476280"/>
            <a:ext cx="329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явился во дво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 в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холодном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декабр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еуклюж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катка стоит с метл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 ветру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зимнему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ривы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ш приятель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1" descr="http://www.gifpark.ru/Gifs/HOLYDAYS/NEW_YEAR/126.gif"/>
          <p:cNvPicPr/>
          <p:nvPr/>
        </p:nvPicPr>
        <p:blipFill>
          <a:blip r:embed="rId1"/>
          <a:stretch/>
        </p:blipFill>
        <p:spPr>
          <a:xfrm>
            <a:off x="1042920" y="184464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3851280" y="54936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подполье, в каморк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Живет она в норк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Сера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малышк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же это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0" name="Picture 2" descr="http://gsmnet.ru/anime/anime/a004.gif"/>
          <p:cNvPicPr/>
          <p:nvPr/>
        </p:nvPicPr>
        <p:blipFill>
          <a:blip r:embed="rId2"/>
          <a:stretch/>
        </p:blipFill>
        <p:spPr>
          <a:xfrm>
            <a:off x="4067280" y="7650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8"/>
          <p:cNvSpPr/>
          <p:nvPr/>
        </p:nvSpPr>
        <p:spPr>
          <a:xfrm>
            <a:off x="1476000" y="4076640"/>
            <a:ext cx="50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придумал вот как ловко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меня своя уловка. Есть кладовка за щекой!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т я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умненьк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как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2" name="Picture 2" descr="http://fantasyflash.ru/anime/hamster/image/homa38.gif"/>
          <p:cNvPicPr/>
          <p:nvPr/>
        </p:nvPicPr>
        <p:blipFill>
          <a:blip r:embed="rId3"/>
          <a:stretch/>
        </p:blipFill>
        <p:spPr>
          <a:xfrm>
            <a:off x="3203640" y="5084640"/>
            <a:ext cx="158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ант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39640" y="1700280"/>
            <a:ext cx="273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и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уп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их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л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ветл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грюм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64000" y="1700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492360" y="22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564000" y="27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564000" y="386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3564000" y="4437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3564000" y="501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564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492360" y="17002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341964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3492360" y="27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3492360" y="386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3492360" y="443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3492360" y="5013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780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чив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син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611280" y="1916280"/>
            <a:ext cx="2736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а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щ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Жар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ин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нимате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уд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покой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о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370836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78000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о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3708360" y="24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3708360" y="2997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йный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г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3851280" y="40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р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3635280" y="45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378000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3635280" y="57340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3635280" y="2421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3635280" y="2997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635280" y="40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3708360" y="45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370836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708360" y="57340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Обобщение пройденного матери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386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такое имя прилагательн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50920" y="242100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Часть речи, которая обозначает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отвечает на вопросы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име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WordArt 6"/>
          <p:cNvSpPr txBox="1"/>
          <p:nvPr/>
        </p:nvSpPr>
        <p:spPr>
          <a:xfrm>
            <a:off x="5435640" y="2276640"/>
            <a:ext cx="180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на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3" name="WordArt 7"/>
          <p:cNvSpPr txBox="1"/>
          <p:nvPr/>
        </p:nvSpPr>
        <p:spPr>
          <a:xfrm>
            <a:off x="3635280" y="2997360"/>
            <a:ext cx="38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ой? какая? какие? чей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WordArt 8"/>
          <p:cNvSpPr txBox="1"/>
          <p:nvPr/>
        </p:nvSpPr>
        <p:spPr>
          <a:xfrm>
            <a:off x="1403280" y="3573360"/>
            <a:ext cx="27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, число, паде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5" name="Picture 9" descr="вопрос"/>
          <p:cNvPicPr/>
          <p:nvPr/>
        </p:nvPicPr>
        <p:blipFill>
          <a:blip r:embed="rId1"/>
          <a:stretch/>
        </p:blipFill>
        <p:spPr>
          <a:xfrm>
            <a:off x="2050920" y="3429000"/>
            <a:ext cx="525600" cy="774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вопрос"/>
          <p:cNvPicPr/>
          <p:nvPr/>
        </p:nvPicPr>
        <p:blipFill>
          <a:blip r:embed="rId2"/>
          <a:stretch/>
        </p:blipFill>
        <p:spPr>
          <a:xfrm>
            <a:off x="5867280" y="2276640"/>
            <a:ext cx="525600" cy="77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вопрос"/>
          <p:cNvPicPr/>
          <p:nvPr/>
        </p:nvPicPr>
        <p:blipFill>
          <a:blip r:embed="rId3"/>
          <a:stretch/>
        </p:blipFill>
        <p:spPr>
          <a:xfrm>
            <a:off x="4211640" y="2852640"/>
            <a:ext cx="525600" cy="7747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2"/>
          <p:cNvSpPr/>
          <p:nvPr/>
        </p:nvSpPr>
        <p:spPr>
          <a:xfrm>
            <a:off x="250920" y="4508640"/>
            <a:ext cx="7386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ова роль имен прилагательных в русском язы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фон крас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7"/>
          <p:cNvSpPr txBox="1"/>
          <p:nvPr/>
        </p:nvSpPr>
        <p:spPr>
          <a:xfrm>
            <a:off x="1403280" y="2276640"/>
            <a:ext cx="54723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им был урок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WordArt 8"/>
          <p:cNvSpPr txBox="1"/>
          <p:nvPr/>
        </p:nvSpPr>
        <p:spPr>
          <a:xfrm>
            <a:off x="324000" y="981000"/>
            <a:ext cx="24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2" name="WordArt 9"/>
          <p:cNvSpPr txBox="1"/>
          <p:nvPr/>
        </p:nvSpPr>
        <p:spPr>
          <a:xfrm>
            <a:off x="3203640" y="981000"/>
            <a:ext cx="2676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ыщен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WordArt 10"/>
          <p:cNvSpPr txBox="1"/>
          <p:nvPr/>
        </p:nvSpPr>
        <p:spPr>
          <a:xfrm>
            <a:off x="6300720" y="907920"/>
            <a:ext cx="200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з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WordArt 11"/>
          <p:cNvSpPr txBox="1"/>
          <p:nvPr/>
        </p:nvSpPr>
        <p:spPr>
          <a:xfrm>
            <a:off x="611280" y="4724280"/>
            <a:ext cx="30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16360" y="4724280"/>
            <a:ext cx="3067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лек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5"/>
          <p:cNvSpPr txBox="1"/>
          <p:nvPr/>
        </p:nvSpPr>
        <p:spPr>
          <a:xfrm>
            <a:off x="539640" y="2205000"/>
            <a:ext cx="69850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24000" y="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рок-исследован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2600" y="1143000"/>
            <a:ext cx="82803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 определить место и значение имени прилагательного в русском язык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научиться находить имена прилагательные в текст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меть применять прилагательные в реч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развивать творческие способ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000" y="147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0240"/>
            <a:ext cx="7837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пределение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ль имени прилагательного в русском язык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сновные грамматические признаки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ние: связь имени прилагательного с именем существительны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фон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4"/>
          <p:cNvSpPr/>
          <p:nvPr/>
        </p:nvSpPr>
        <p:spPr>
          <a:xfrm>
            <a:off x="4500720" y="189000"/>
            <a:ext cx="4390920" cy="2449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859280" y="620640"/>
            <a:ext cx="396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пределяю я предмет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и со мной весьма приметн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украшаю вашу реч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еня вам надо знать, беречь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WordArt 16"/>
          <p:cNvSpPr txBox="1"/>
          <p:nvPr/>
        </p:nvSpPr>
        <p:spPr>
          <a:xfrm>
            <a:off x="900000" y="2781360"/>
            <a:ext cx="66214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187280" y="400536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воляет передать качества предметов, явлений в красках, звуках, движениях, ощущениях, формах. Прилагательные уточняют нашу речь, делают ее яркой, красочной, эмоциональ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Белый"/>
          <p:cNvPicPr/>
          <p:nvPr/>
        </p:nvPicPr>
        <p:blipFill>
          <a:blip r:embed="rId1"/>
          <a:stretch/>
        </p:blipFill>
        <p:spPr>
          <a:xfrm>
            <a:off x="2195640" y="2781360"/>
            <a:ext cx="952200" cy="896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фон7"/>
          <p:cNvPicPr/>
          <p:nvPr/>
        </p:nvPicPr>
        <p:blipFill>
          <a:blip r:embed="rId2"/>
          <a:stretch/>
        </p:blipFill>
        <p:spPr>
          <a:xfrm>
            <a:off x="0" y="-458640"/>
            <a:ext cx="12382560" cy="80769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4967280" y="765000"/>
            <a:ext cx="4176720" cy="6409080"/>
          </a:xfrm>
          <a:prstGeom prst="wedgeRoundRectCallout">
            <a:avLst>
              <a:gd name="adj1" fmla="val -78847"/>
              <a:gd name="adj2" fmla="val -28648"/>
              <a:gd name="adj3" fmla="val 1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256360" y="1009800"/>
            <a:ext cx="388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имя прилагательно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очень замечательное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сё о предметах подмечаю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ризнаки обознача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Без признаков предмета нет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И это вовсе не секрет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едь без меня не скажешь ты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го цвета тут цветы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ие парты, стол как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й котёнок озорн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одружиться с вами рад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Мне будут знания наград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Дружу я с существительны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Очень удивительным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12" descr="прилагательное"/>
          <p:cNvPicPr/>
          <p:nvPr/>
        </p:nvPicPr>
        <p:blipFill>
          <a:blip r:embed="rId3"/>
          <a:stretch/>
        </p:blipFill>
        <p:spPr>
          <a:xfrm>
            <a:off x="2268360" y="148428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2511"/>
                </a:solidFill>
                <a:latin typeface="Arial"/>
              </a:rPr>
              <a:t>Имя прилагательное-</a:t>
            </a:r>
            <a:r>
              <a:rPr b="1" i="1" lang="ru-RU" sz="4000" spc="-1" strike="noStrike">
                <a:solidFill>
                  <a:srgbClr val="e52511"/>
                </a:solidFill>
                <a:latin typeface="Arial"/>
              </a:rPr>
              <a:t>это часть речи, котора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бозначает признак предме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е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Имеет род</a:t>
            </a:r>
            <a:r>
              <a:rPr b="1" lang="en-US" sz="3200" spc="-1" strike="noStrike">
                <a:solidFill>
                  <a:srgbClr val="dc893e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исло, падеж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5" descr="прилагательное"/>
          <p:cNvPicPr/>
          <p:nvPr/>
        </p:nvPicPr>
        <p:blipFill>
          <a:blip r:embed="rId9"/>
          <a:stretch/>
        </p:blipFill>
        <p:spPr>
          <a:xfrm>
            <a:off x="4788000" y="3213000"/>
            <a:ext cx="1711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текс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981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………утро. ……………солнышко посылало на землю…..……лучи. В…………….воде купали свои………… ветви………….ивы. В зарослях…………осоки прятались………….цветы. Птицы пели свои……………песн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ранне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843280" y="981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18728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тепл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3480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еркаль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11600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иб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059280" y="1700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плакуч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763640" y="20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уст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29272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яр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270036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волшебн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1655640" y="3060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2" descr="фон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179280" y="3500280"/>
            <a:ext cx="576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Бурый, лохматый, косола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сатый, сладкий, саха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пелое, круглое, соч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14" descr="Сова"/>
          <p:cNvPicPr/>
          <p:nvPr/>
        </p:nvPicPr>
        <p:blipFill>
          <a:blip r:embed="rId2"/>
          <a:stretch/>
        </p:blipFill>
        <p:spPr>
          <a:xfrm>
            <a:off x="324000" y="260280"/>
            <a:ext cx="1904760" cy="20289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6"/>
          <p:cNvSpPr/>
          <p:nvPr/>
        </p:nvSpPr>
        <p:spPr>
          <a:xfrm>
            <a:off x="3132000" y="115920"/>
            <a:ext cx="5472360" cy="1225440"/>
          </a:xfrm>
          <a:prstGeom prst="wedgeRoundRectCallout">
            <a:avLst>
              <a:gd name="adj1" fmla="val -44083"/>
              <a:gd name="adj2" fmla="val 105180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203640" y="26028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казывается, если точно описать предмет с помощью имени прилагательного, можно узнать его, даже не вид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8" descr="ARBUZ_DYNYa_s_polya_bez_posrednikov"/>
          <p:cNvPicPr/>
          <p:nvPr/>
        </p:nvPicPr>
        <p:blipFill>
          <a:blip r:embed="rId3"/>
          <a:stretch/>
        </p:blipFill>
        <p:spPr>
          <a:xfrm>
            <a:off x="7020000" y="3933720"/>
            <a:ext cx="1727280" cy="174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Яблоко"/>
          <p:cNvPicPr/>
          <p:nvPr/>
        </p:nvPicPr>
        <p:blipFill>
          <a:blip r:embed="rId4"/>
          <a:stretch/>
        </p:blipFill>
        <p:spPr>
          <a:xfrm>
            <a:off x="4643280" y="5041800"/>
            <a:ext cx="2160720" cy="18162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21"/>
          <p:cNvSpPr txBox="1"/>
          <p:nvPr/>
        </p:nvSpPr>
        <p:spPr>
          <a:xfrm>
            <a:off x="2340000" y="2708280"/>
            <a:ext cx="1944720" cy="18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62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234" name="Picture 22" descr="мишка"/>
          <p:cNvPicPr/>
          <p:nvPr/>
        </p:nvPicPr>
        <p:blipFill>
          <a:blip r:embed="rId5"/>
          <a:stretch/>
        </p:blipFill>
        <p:spPr>
          <a:xfrm>
            <a:off x="4932360" y="2133720"/>
            <a:ext cx="18334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28:40Z</dcterms:created>
  <dc:creator>Юрий Голубь</dc:creator>
  <dc:description/>
  <dc:language>en-US</dc:language>
  <cp:lastModifiedBy>Начальная</cp:lastModifiedBy>
  <dcterms:modified xsi:type="dcterms:W3CDTF">2020-04-18T07:54:07Z</dcterms:modified>
  <cp:revision>27</cp:revision>
  <dc:subject/>
  <dc:title>Самая красочная часть речи</dc:title>
</cp:coreProperties>
</file>